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F0C7-E2C9-452E-81EB-A952ECF5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0464E-6B22-408B-97F4-FEE878F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1CB3-95F5-48A9-94B2-5AE844E9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789C-3DAB-4DB2-AD67-920FF6BB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F58A-0C7F-4CB9-BC1A-9DEDB26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EA6F4-6998-4E8F-9D5A-2FB0DFA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A51B-1EE4-4F66-9A3C-DC10DFFF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4103-0528-49B8-9EB1-7CB35DFC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D97B-9612-4A54-AAB7-4A09A662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A1CA5-319D-4083-90B0-D4574965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58A10-33CD-4B1F-8270-1CD0D1DA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0E41-8F68-4A2D-B2B9-71B69F66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469A-A3CF-4987-BB9D-6076CD23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4B36-58C1-422B-9B53-C5B5452D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FE13-D775-4A86-901D-8DDFA026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788E-D75D-41AE-86C4-1A575F61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6D2C-E399-49F4-B078-BC9A9BED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CDF4-72C3-41E9-BD4D-C039377B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BACE-CB4C-4A5A-82F6-87874FF0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E6D5B-9C5B-4BE8-817D-1683C2F5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C39A-4DA5-43A4-BA83-0AAAB394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F0E9-6F0C-4C3E-9CB5-0BC7ED61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44975-D82A-497F-B057-C9616D1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91822-E990-471F-906C-BC5C3CD5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22898-F565-4E21-B506-A96E1199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EEDD-AFC9-400E-BFCC-1AEE96C5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8DAC-51BC-4FFF-A680-A140F8DA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BB4D-E8CA-43F2-9FB6-36AFC37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0401E-7154-4882-9B07-0CE8A938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D138E-8320-4397-8BF3-0C4ADB47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2E7B3-8439-4AD3-98B1-FB54A2EF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6F2A3-A7D6-4A25-84A5-8BCA0DD8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75CA1-5FC1-4558-A60F-B7F42EB4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36FD-A434-48C9-B9EB-D10B88AD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8AF29-895F-4906-9F7C-281DC8D6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C12E-583B-4A89-807F-EC2E6140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E6C0-2C43-416C-A639-8CB2E8A8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90EC0-3976-4655-AF1C-4F1A3474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D7076-698F-44E7-8608-B1610148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5F883-C588-4E71-A26C-3EA4F21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544E8-7D27-4C8A-9221-7EACB98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9BFB-C6ED-463E-B245-3AEC88F3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AE1B-171A-4962-AFE2-D1A9D1C5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32BED-731B-4C9B-BDEB-0E4C5944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D252F-7349-4414-9DCD-80E910A8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ECA-B9FB-4B4C-BE10-1A871013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BF7-9ACC-4429-989B-9882BF9B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F1A-3165-4026-96BA-31479634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FCB-0950-48EF-B93F-21B6D3BA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814-4019-434C-902E-B907ADD9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FBF-453D-47D1-9806-5746D786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268-B621-49CD-9865-85706D8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E46-F95B-49E0-AE69-851BCB1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D2C-0C9D-4634-8D0C-962F2FE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610-7045-4A96-82AA-8D880009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A12-200E-41DD-950E-BB17D80C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732-85D6-4260-B542-B3632473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BA92-8FE7-4EA0-9063-5198F7AF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0ACA-3B5B-4F95-8529-70701ECA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CD7C-78D2-448D-907E-2E7923B6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6D0C-5A0C-4CB5-A8BD-3AED6217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B146-7866-4933-995D-DEAA26EB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790200" y="188640"/>
            <a:ext cx="59785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1D8F-7FCE-44DC-B406-8950110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F7F8-A76B-4879-855F-0C58E9DF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FEC-DBFB-423D-A4B3-E549E1D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C82D-DDD1-45C9-BAE6-29E1D1F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26920" y="389160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A722-3986-4836-B7C6-3FD5995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2692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5240" y="389160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4E59-4ABE-4B7F-A7E0-4A7D0898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595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892120" y="148428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269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595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892120" y="389160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895A-896D-48B4-A006-28CD23B0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34B8-45E6-4F93-A7F3-6375C03D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D24B-554B-4081-B047-CF6A2A06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A490-48F1-4D61-A0D6-87CC6295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08AA4-4AE9-463A-8FBE-960437486D70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F44F9-9C6E-471E-9ED8-A818A5C9D0BB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圓角矩形 11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409B1-BDD3-4120-AF67-16408954E72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5A727-080B-4072-A8AB-08BB87E8BA75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4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826920" y="260280"/>
            <a:ext cx="60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0779A-6E00-4FA3-8042-9ECDA16262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927D8-7E54-449D-BECA-2586D17FCCE6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le 1"/>
          <p:cNvSpPr/>
          <p:nvPr/>
        </p:nvSpPr>
        <p:spPr>
          <a:xfrm>
            <a:off x="755640" y="26028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old"/>
                <a:ea typeface="Arial Unicode MS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itle 1"/>
          <p:cNvSpPr/>
          <p:nvPr/>
        </p:nvSpPr>
        <p:spPr>
          <a:xfrm>
            <a:off x="790560" y="189000"/>
            <a:ext cx="597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按一下以編輯母片標題樣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9AD73-6FAA-497F-A05B-09533266301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5"/>
          <p:cNvSpPr/>
          <p:nvPr/>
        </p:nvSpPr>
        <p:spPr>
          <a:xfrm>
            <a:off x="8317080" y="6624720"/>
            <a:ext cx="742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4DFCF-719F-4566-AFDA-973F968BAF84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E91E3-A4F3-4A0A-BFB7-AE5A01EE6E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9ECD9-4778-45B1-825D-8F5F98FD27A4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BCAD1-0E2D-4321-942F-EA9AFCFE5727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826920" y="260280"/>
            <a:ext cx="60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5"/>
          <p:cNvSpPr/>
          <p:nvPr/>
        </p:nvSpPr>
        <p:spPr>
          <a:xfrm>
            <a:off x="8388360" y="6597720"/>
            <a:ext cx="74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63081-7B32-478C-83D3-8C0C217B7746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755640" y="26028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old"/>
                <a:ea typeface="Arial Unicode MS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itle 1"/>
          <p:cNvSpPr/>
          <p:nvPr/>
        </p:nvSpPr>
        <p:spPr>
          <a:xfrm>
            <a:off x="790560" y="189000"/>
            <a:ext cx="597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按一下以編輯母片標題樣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90200" y="188640"/>
            <a:ext cx="597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578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578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42b0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42b0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圓角矩形 11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4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5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0F6AB-81BE-4111-892B-D513AC83D2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圓角矩形 11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324" name="圓角矩形 11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矩形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4B18C-DA08-48F8-A064-1244EAE414D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8"/>
          <p:cNvSpPr/>
          <p:nvPr/>
        </p:nvSpPr>
        <p:spPr>
          <a:xfrm>
            <a:off x="539640" y="1557360"/>
            <a:ext cx="8064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9"/>
          <p:cNvSpPr/>
          <p:nvPr/>
        </p:nvSpPr>
        <p:spPr>
          <a:xfrm>
            <a:off x="5613480" y="316080"/>
            <a:ext cx="33512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1295280" y="3200400"/>
            <a:ext cx="6400800" cy="336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5929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TW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26920" y="1484280"/>
            <a:ext cx="74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36:40Z</dcterms:created>
  <dc:creator>Moldex3D</dc:creator>
  <dc:description/>
  <dc:language>en-US</dc:language>
  <cp:lastModifiedBy>moldex3d</cp:lastModifiedBy>
  <dcterms:modified xsi:type="dcterms:W3CDTF">2012-09-25T04:02:58Z</dcterms:modified>
  <cp:revision>530</cp:revision>
  <dc:subject/>
  <dc:title>Slide 1</dc:title>
</cp:coreProperties>
</file>