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09903-30B1-4592-B521-5209697CC0EA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5"/>
          <p:cNvSpPr/>
          <p:nvPr/>
        </p:nvSpPr>
        <p:spPr>
          <a:xfrm>
            <a:off x="8317080" y="6624720"/>
            <a:ext cx="742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41953-021E-4B35-9867-0C08BFBF8CFC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CFD5F-D575-4D5F-BC46-CCF50F43FFF4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826920" y="260280"/>
            <a:ext cx="60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88B1C-18A9-4F08-A2A8-85F15E531735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755640" y="26028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old"/>
                <a:ea typeface="Arial Unicode MS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90560" y="189000"/>
            <a:ext cx="597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按一下以編輯母片標題樣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8"/>
          <p:cNvSpPr/>
          <p:nvPr/>
        </p:nvSpPr>
        <p:spPr>
          <a:xfrm>
            <a:off x="755640" y="0"/>
            <a:ext cx="59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468360" y="1295280"/>
            <a:ext cx="844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4191120" y="4159080"/>
            <a:ext cx="4572000" cy="682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36:40Z</dcterms:created>
  <dc:creator>Moldex3D</dc:creator>
  <dc:description/>
  <dc:language>en-US</dc:language>
  <cp:lastModifiedBy>moldex3d</cp:lastModifiedBy>
  <dcterms:modified xsi:type="dcterms:W3CDTF">2012-10-17T06:06:26Z</dcterms:modified>
  <cp:revision>529</cp:revision>
  <dc:subject/>
  <dc:title>Slide 1</dc:title>
</cp:coreProperties>
</file>