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80A03-DB0D-41AB-822D-FD53CBD4DC73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5"/>
          <p:cNvSpPr/>
          <p:nvPr/>
        </p:nvSpPr>
        <p:spPr>
          <a:xfrm>
            <a:off x="8317080" y="6624720"/>
            <a:ext cx="742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5E527-68E1-4232-A403-992B59CB224E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E29CC-1E05-4394-96A0-4FCCC753048C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826920" y="260280"/>
            <a:ext cx="60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A2299-38D2-482B-944C-78A3E8134C4F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755640" y="26028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old"/>
                <a:ea typeface="Arial Unicode MS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90560" y="189000"/>
            <a:ext cx="597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按一下以編輯母片標題樣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8"/>
          <p:cNvSpPr/>
          <p:nvPr/>
        </p:nvSpPr>
        <p:spPr>
          <a:xfrm>
            <a:off x="684360" y="3213000"/>
            <a:ext cx="7705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5869080" y="5300640"/>
            <a:ext cx="309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647640" y="5157720"/>
            <a:ext cx="45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36:40Z</dcterms:created>
  <dc:creator>Moldex3D</dc:creator>
  <dc:description/>
  <dc:language>en-US</dc:language>
  <cp:lastModifiedBy>moldex3d</cp:lastModifiedBy>
  <dcterms:modified xsi:type="dcterms:W3CDTF">2012-10-23T03:53:50Z</dcterms:modified>
  <cp:revision>541</cp:revision>
  <dc:subject/>
  <dc:title>Slide 1</dc:title>
</cp:coreProperties>
</file>