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4D3E0-A90C-49AC-B9E6-E507F74BCCD6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22FE3-7B8D-471C-B082-49E5CBC22F99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AB37E-DE15-4C98-82AA-E1E38846920E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2058E-6409-49EE-AFAD-D2C7341197F4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684360" y="3213000"/>
            <a:ext cx="7705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869080" y="5300640"/>
            <a:ext cx="309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647640" y="515772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23T03:53:56Z</dcterms:modified>
  <cp:revision>538</cp:revision>
  <dc:subject/>
  <dc:title>Slide 1</dc:title>
</cp:coreProperties>
</file>