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78843-7E6A-4F70-9B76-FA2142EC3D08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15"/>
          <p:cNvSpPr/>
          <p:nvPr/>
        </p:nvSpPr>
        <p:spPr>
          <a:xfrm>
            <a:off x="8317080" y="6624720"/>
            <a:ext cx="7426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E0CCF-7C7A-4552-9481-D57AF5431B7E}" type="slidenum">
              <a:rPr b="0" lang="en-US" sz="9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1A923-3B71-42BE-B77D-FEB12BA6AE8A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826920" y="260280"/>
            <a:ext cx="60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Click to edit Master title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DF1F4-2CD6-4963-8099-526BE5DD4164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tle 1"/>
          <p:cNvSpPr/>
          <p:nvPr/>
        </p:nvSpPr>
        <p:spPr>
          <a:xfrm>
            <a:off x="755640" y="260280"/>
            <a:ext cx="60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old"/>
                <a:ea typeface="Arial Unicode MS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tle 1"/>
          <p:cNvSpPr/>
          <p:nvPr/>
        </p:nvSpPr>
        <p:spPr>
          <a:xfrm>
            <a:off x="790560" y="189000"/>
            <a:ext cx="5978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按一下以編輯母片標題樣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8"/>
          <p:cNvSpPr/>
          <p:nvPr/>
        </p:nvSpPr>
        <p:spPr>
          <a:xfrm>
            <a:off x="684360" y="3213000"/>
            <a:ext cx="77054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5869080" y="5300640"/>
            <a:ext cx="3097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647640" y="5157720"/>
            <a:ext cx="457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36:40Z</dcterms:created>
  <dc:creator>Moldex3D</dc:creator>
  <dc:description/>
  <dc:language>en-US</dc:language>
  <cp:lastModifiedBy>moldex3d</cp:lastModifiedBy>
  <dcterms:modified xsi:type="dcterms:W3CDTF">2012-10-23T03:54:01Z</dcterms:modified>
  <cp:revision>536</cp:revision>
  <dc:subject/>
  <dc:title>Slide 1</dc:title>
</cp:coreProperties>
</file>