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F4A7F-B3D6-46B1-B4D8-823120E44253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728F3-BBA9-4AA3-A310-E323B49C67DC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1090E-F4B9-4E77-822A-40C9A8E3A70B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D64D4-367C-4731-9D79-09B46448733E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684360" y="3213000"/>
            <a:ext cx="7705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869080" y="5300640"/>
            <a:ext cx="309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647640" y="515772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23T03:54:06Z</dcterms:modified>
  <cp:revision>536</cp:revision>
  <dc:subject/>
  <dc:title>Slide 1</dc:title>
</cp:coreProperties>
</file>